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1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1727280" indent="-21600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2158920" indent="-215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2158920" indent="-215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2158920" indent="-215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ffy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ffy/isb_help.php?help_page=Make_R_CHP_file.xml" TargetMode="External"/><Relationship Id="rId2" Type="http://schemas.openxmlformats.org/officeDocument/2006/relationships/hyperlink" Target="http://affy/isb_help.php?help_page=R_GCOS_comparison.x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9760" y="336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SBEAMS overview 10.21.04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7760" y="1440000"/>
            <a:ext cx="8607240" cy="49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Overview of current Affy SBEAMS pages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Adding Array and Sample information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Viewing and downloading Affy file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Querying Affy expression information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ffy Help pages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ffy Analysis Pipeline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Pre-processing and Normalization in R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Potential analysis platform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6018" r="28481" b="0"/>
          <a:stretch/>
        </p:blipFill>
        <p:spPr>
          <a:xfrm>
            <a:off x="0" y="2768760"/>
            <a:ext cx="7250040" cy="479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28520" y="5052960"/>
            <a:ext cx="1485720" cy="549360"/>
          </a:xfrm>
          <a:prstGeom prst="ellipse">
            <a:avLst/>
          </a:prstGeom>
          <a:noFill/>
          <a:ln w="54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11320" y="1758960"/>
            <a:ext cx="280656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Choose you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2760" y="4051440"/>
            <a:ext cx="22820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 a query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65520" y="4762440"/>
            <a:ext cx="10612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8840" y="2049480"/>
            <a:ext cx="1807920" cy="13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711680" y="4309920"/>
            <a:ext cx="90792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209320" y="4987800"/>
            <a:ext cx="3845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86000" y="545760"/>
            <a:ext cx="6346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Simple Query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6" name=""/>
          <p:cNvSpPr/>
          <p:nvPr/>
        </p:nvSpPr>
        <p:spPr>
          <a:xfrm>
            <a:off x="7039800" y="5800680"/>
            <a:ext cx="23508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Samples to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129360" y="5955840"/>
            <a:ext cx="457200" cy="2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7760" y="0"/>
            <a:ext cx="860724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Simple Query Results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16018" r="17089" b="16018"/>
          <a:stretch/>
        </p:blipFill>
        <p:spPr>
          <a:xfrm>
            <a:off x="758880" y="2938320"/>
            <a:ext cx="803916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3040" y="696960"/>
            <a:ext cx="8572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All expression values are converted to log10 value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Converted values are mapped to 256 shades of gray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Genes are sorted by mean intensity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Marginal/Absent calls are shown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Links to internal Affy annotation provided too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1" name=""/>
          <p:cNvSpPr/>
          <p:nvPr/>
        </p:nvSpPr>
        <p:spPr>
          <a:xfrm>
            <a:off x="1952640" y="4843440"/>
            <a:ext cx="695160" cy="1339920"/>
          </a:xfrm>
          <a:prstGeom prst="ellipse">
            <a:avLst/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8640" y="179280"/>
            <a:ext cx="860760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Internal Affy Annotation Pag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4769" r="28438" b="0"/>
          <a:stretch/>
        </p:blipFill>
        <p:spPr>
          <a:xfrm>
            <a:off x="0" y="1387440"/>
            <a:ext cx="71787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080" y="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dvanced Query Pag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9920" y="955800"/>
            <a:ext cx="8607240" cy="57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ffymetrix provides annotation files for all their arrays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For the arrays ISB uses the annotation files are parsed and loaded into Sbeams on a quarterly basi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The Advanced Query page can be searched with a variety of terms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rrays from different projects can be grouped together and search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Data can be pivoted to display each array sample as a column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Data can be displayed with or without Gene Ontology annotation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96" name=""/>
          <p:cNvSpPr/>
          <p:nvPr/>
        </p:nvSpPr>
        <p:spPr>
          <a:xfrm>
            <a:off x="111240" y="888840"/>
            <a:ext cx="9813960" cy="1800"/>
          </a:xfrm>
          <a:prstGeom prst="line">
            <a:avLst/>
          </a:prstGeom>
          <a:ln w="18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3400" y="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dvanced Query Pag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18" r="39874" b="0"/>
          <a:stretch/>
        </p:blipFill>
        <p:spPr>
          <a:xfrm>
            <a:off x="171360" y="1023840"/>
            <a:ext cx="6080040" cy="604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26800" y="2687760"/>
            <a:ext cx="2120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one or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jects with Aff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43200" y="-3780000"/>
            <a:ext cx="95256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82200" y="3862440"/>
            <a:ext cx="32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arrays of inter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defaults to all arrays from selected proj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084200" y="2933640"/>
            <a:ext cx="93996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6680" y="3989520"/>
            <a:ext cx="9288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912920" y="5254560"/>
            <a:ext cx="725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8680" y="5100480"/>
            <a:ext cx="2628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ter Query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 Sbeams wild cards term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91720" y="6221520"/>
            <a:ext cx="1611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vot Data or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 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637160" y="6467400"/>
            <a:ext cx="12477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5160" y="0"/>
            <a:ext cx="86076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dvance query Results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6018" r="0" b="0"/>
          <a:stretch/>
        </p:blipFill>
        <p:spPr>
          <a:xfrm>
            <a:off x="88920" y="2286000"/>
            <a:ext cx="8709120" cy="4522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0800" y="651960"/>
            <a:ext cx="885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Data can be displayed in a html table, tsv,csv,excel or xml formats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Any of the columns my be sorted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Link to Affy annotation page is provided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0"/>
            <a:ext cx="860724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ffy Help Pages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0600" y="88380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View the Affy help pages to learn more about most of the things talked about today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affy/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Link to the Affymetrix hybridization scheduling page can be found here too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14769" r="42658" b="39384"/>
          <a:stretch/>
        </p:blipFill>
        <p:spPr>
          <a:xfrm>
            <a:off x="82440" y="2817720"/>
            <a:ext cx="6158160" cy="3861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826160"/>
            <a:ext cx="1373040" cy="804600"/>
          </a:xfrm>
          <a:prstGeom prst="ellipse">
            <a:avLst/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0" t="14769" r="39103" b="19692"/>
          <a:stretch/>
        </p:blipFill>
        <p:spPr>
          <a:xfrm>
            <a:off x="4689360" y="3672000"/>
            <a:ext cx="5302440" cy="3749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126800" y="4148280"/>
            <a:ext cx="3508200" cy="120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Example Affy Help Pa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Simple Query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4575" r="36633" b="7287"/>
          <a:stretch/>
        </p:blipFill>
        <p:spPr>
          <a:xfrm>
            <a:off x="185760" y="1293840"/>
            <a:ext cx="632772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77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ffy Analysis Pipelin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0600" y="1275840"/>
            <a:ext cx="8607240" cy="618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Currently working to setup an analysis pipeline to help facilitate data pre-processing, differential expression detection, data integration and visualization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Discussion Points for setting up pipeline 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What programs and/or algorithms are currently being used for data pre-processing?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What programs are being used for data analysis and visualization?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What is the expression information being used for?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What is the starting data format for the program(s)?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What is the ending data format?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Should or Could these steps be automated?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Cytoscape integration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What data should be loaded into Condition and GeneExpression tables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1" name=""/>
          <p:cNvSpPr/>
          <p:nvPr/>
        </p:nvSpPr>
        <p:spPr>
          <a:xfrm>
            <a:off x="112680" y="1033560"/>
            <a:ext cx="9813960" cy="1440"/>
          </a:xfrm>
          <a:prstGeom prst="line">
            <a:avLst/>
          </a:prstGeom>
          <a:ln w="18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440" y="55440"/>
            <a:ext cx="8607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Initial pipeline wor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0600" y="714240"/>
            <a:ext cx="860724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Integrate Bioconductor analysis web pages into Sbeams.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All open source software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Will be relatively easy to setup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Convenient platform to export data for use in different program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Simplifies using R command line to process data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Export data from Bioconductor in (MultiExperiment Viewer) MeV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Open source software from TIGR, allows visualization and analysis of expression data set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4" name=""/>
          <p:cNvSpPr/>
          <p:nvPr/>
        </p:nvSpPr>
        <p:spPr>
          <a:xfrm>
            <a:off x="135000" y="687240"/>
            <a:ext cx="9813960" cy="1800"/>
          </a:xfrm>
          <a:prstGeom prst="line">
            <a:avLst/>
          </a:prstGeom>
          <a:ln w="18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5600" y="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dding Array and Sample information 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3600" y="1099800"/>
            <a:ext cx="8607240" cy="62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Currently the system automatically uploads the following information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Project name, user name, sample name, array type and basic protocol information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dditional fields available for array annotation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Protocol Deviations, Comment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dditional fields available for sample annotation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15 additional fields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Access the data from Microarray Project Home Page</a:t>
            </a: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erif"/>
              </a:rPr>
              <a:t>http://db.systemsbiology.net/sbeams/cgi/Microarray/ProjectHome.cgi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0" y="960480"/>
            <a:ext cx="10080720" cy="14400"/>
          </a:xfrm>
          <a:prstGeom prst="line">
            <a:avLst/>
          </a:prstGeom>
          <a:ln w="18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8640" y="0"/>
            <a:ext cx="8607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Entering data into Bioconduct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Work in development)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12800" r="21328" b="0"/>
          <a:stretch/>
        </p:blipFill>
        <p:spPr>
          <a:xfrm>
            <a:off x="66600" y="1177920"/>
            <a:ext cx="7891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74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Pre Processing for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14769" r="28438" b="2954"/>
          <a:stretch/>
        </p:blipFill>
        <p:spPr>
          <a:xfrm>
            <a:off x="504720" y="1324080"/>
            <a:ext cx="7178760" cy="596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93760" y="3209760"/>
            <a:ext cx="87696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m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crma-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crma-m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26480" y="3433680"/>
            <a:ext cx="129456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uan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uantiles.rob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tr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ariant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sp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72760" y="5373720"/>
            <a:ext cx="957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m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tract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91600" y="5938920"/>
            <a:ext cx="109656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vgd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w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dianpo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ayer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l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72000" y="3116160"/>
            <a:ext cx="1253880" cy="1317600"/>
          </a:xfrm>
          <a:custGeom>
            <a:avLst/>
            <a:gdLst>
              <a:gd name="textAreaLeft" fmla="*/ 360 w 1253880"/>
              <a:gd name="textAreaRight" fmla="*/ 1253520 w 1253880"/>
              <a:gd name="textAreaTop" fmla="*/ 360 h 1317600"/>
              <a:gd name="textAreaBottom" fmla="*/ 1317240 h 1317600"/>
            </a:gdLst>
            <a:ahLst/>
            <a:rect l="textAreaLeft" t="textAreaTop" r="textAreaRight" b="textAreaBottom"/>
            <a:pathLst>
              <a:path w="21600" h="22697">
                <a:moveTo>
                  <a:pt x="27" y="0"/>
                </a:moveTo>
                <a:arcTo wR="27" hR="27" stAng="16200000" swAng="-5400000"/>
                <a:lnTo>
                  <a:pt x="0" y="22670"/>
                </a:lnTo>
                <a:arcTo wR="27" hR="27" stAng="10800000" swAng="-5400000"/>
                <a:lnTo>
                  <a:pt x="21573" y="22697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3222720"/>
            <a:ext cx="1785960" cy="2011320"/>
          </a:xfrm>
          <a:custGeom>
            <a:avLst/>
            <a:gdLst>
              <a:gd name="textAreaLeft" fmla="*/ 360 w 1785960"/>
              <a:gd name="textAreaRight" fmla="*/ 1785600 w 1785960"/>
              <a:gd name="textAreaTop" fmla="*/ 360 h 2011320"/>
              <a:gd name="textAreaBottom" fmla="*/ 2010960 h 2011320"/>
            </a:gdLst>
            <a:ahLst/>
            <a:rect l="textAreaLeft" t="textAreaTop" r="textAreaRight" b="textAreaBottom"/>
            <a:pathLst>
              <a:path w="21600" h="24325">
                <a:moveTo>
                  <a:pt x="19" y="0"/>
                </a:moveTo>
                <a:arcTo wR="19" hR="19" stAng="16200000" swAng="-5400000"/>
                <a:lnTo>
                  <a:pt x="0" y="24306"/>
                </a:lnTo>
                <a:arcTo wR="19" hR="19" stAng="10800000" swAng="-5400000"/>
                <a:lnTo>
                  <a:pt x="21581" y="24325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5303880"/>
            <a:ext cx="1425600" cy="81108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2760" y="5891040"/>
            <a:ext cx="1525320" cy="1422720"/>
          </a:xfrm>
          <a:prstGeom prst="roundRect">
            <a:avLst>
              <a:gd name="adj" fmla="val 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40120" y="4113000"/>
            <a:ext cx="695160" cy="62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25960" y="4642920"/>
            <a:ext cx="15508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40120" y="5245200"/>
            <a:ext cx="24937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9160" y="5491080"/>
            <a:ext cx="3981600" cy="10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4360" y="0"/>
            <a:ext cx="860724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Analysis Star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14769" r="35548" b="0"/>
          <a:stretch/>
        </p:blipFill>
        <p:spPr>
          <a:xfrm>
            <a:off x="876240" y="1104840"/>
            <a:ext cx="53546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1303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Results from Bioconductor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4769" r="31993" b="0"/>
          <a:stretch/>
        </p:blipFill>
        <p:spPr>
          <a:xfrm>
            <a:off x="306360" y="2540160"/>
            <a:ext cx="4549680" cy="4221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0" t="14769" r="35548" b="0"/>
          <a:stretch/>
        </p:blipFill>
        <p:spPr>
          <a:xfrm>
            <a:off x="5297400" y="3762360"/>
            <a:ext cx="425952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7776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Data Display 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6680" y="108540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Use MeV to display and analyze expression data sets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Bruz has some very encouraging observations using R to pre-process a data set and importing the data into MeV.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Similar results could be done with GeneSpring or other data analysis packages...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9160" y="217080"/>
            <a:ext cx="8820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TIGR MeV: Features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7640" y="2114280"/>
            <a:ext cx="4326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itstream Vera Serif"/>
              </a:rPr>
              <a:t>User-friendly interface to many public methods: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Hierarchical Clustering(HCL)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HCL Support Trees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Self-Organizing Tree Alorithm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Relevance Networks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k-Means Clustering (KMC)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KMC Support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Cluster Affinity Search Technique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Quality Clustering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Gene Shaving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erif"/>
              </a:rPr>
              <a:t>Self-Organizing Map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Figure of Merit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1760" y="3060360"/>
            <a:ext cx="43257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Pavlidis Template Matching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erif"/>
              </a:rPr>
              <a:t>t-test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erif"/>
              </a:rPr>
              <a:t>SAM (not VERA/SAM)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erif"/>
              </a:rPr>
              <a:t>ANOVA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erif"/>
              </a:rPr>
              <a:t>2-Factor ANOVA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erif"/>
              </a:rPr>
              <a:t>Support Vector Machines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erif"/>
              </a:rPr>
              <a:t>K-Nearest Neighbors Classification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Gene Distance Matrix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Principal Component Analysis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Generate Terrain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itstream Vera Serif"/>
              </a:rPr>
              <a:t>EASE Annotation Analysis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0626" t="20315" r="9374" b="75019"/>
          <a:stretch/>
        </p:blipFill>
        <p:spPr>
          <a:xfrm>
            <a:off x="1014480" y="979560"/>
            <a:ext cx="8483400" cy="39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711760" y="1895400"/>
            <a:ext cx="504720" cy="252360"/>
          </a:xfrm>
          <a:prstGeom prst="roundRect">
            <a:avLst>
              <a:gd name="adj" fmla="val 6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1760" y="2220840"/>
            <a:ext cx="504720" cy="252360"/>
          </a:xfrm>
          <a:prstGeom prst="roundRect">
            <a:avLst>
              <a:gd name="adj" fmla="val 6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1760" y="2568600"/>
            <a:ext cx="504720" cy="252360"/>
          </a:xfrm>
          <a:prstGeom prst="roundRect">
            <a:avLst>
              <a:gd name="adj" fmla="val 63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32600" y="1844640"/>
            <a:ext cx="1931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= Clus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32600" y="2232000"/>
            <a:ext cx="1931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=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32600" y="2568600"/>
            <a:ext cx="1931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=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22500" t="10159" r="23123" b="21880"/>
          <a:stretch/>
        </p:blipFill>
        <p:spPr>
          <a:xfrm>
            <a:off x="1008000" y="1932120"/>
            <a:ext cx="5376960" cy="5376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7640" y="587160"/>
            <a:ext cx="8820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TIGR MeV: SA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1640" y="1931760"/>
            <a:ext cx="327672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Modified t-test widely used with microarray data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19374" t="16409" r="18748" b="16409"/>
          <a:stretch/>
        </p:blipFill>
        <p:spPr>
          <a:xfrm>
            <a:off x="1092240" y="1932120"/>
            <a:ext cx="621648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7640" y="587160"/>
            <a:ext cx="8820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TIGR MeV: SAM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91160" y="1931760"/>
            <a:ext cx="243684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User selection of significance threshold based upon number of genes called significant and number of expected false positive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9374" t="16409" r="9374" b="14847"/>
          <a:stretch/>
        </p:blipFill>
        <p:spPr>
          <a:xfrm>
            <a:off x="1092240" y="1847880"/>
            <a:ext cx="8232840" cy="5572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7640" y="587160"/>
            <a:ext cx="8820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TIGR MeV: HCL Support Trees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9374" t="16409" r="9374" b="16409"/>
          <a:stretch/>
        </p:blipFill>
        <p:spPr>
          <a:xfrm>
            <a:off x="1092240" y="1932120"/>
            <a:ext cx="8148600" cy="5392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7640" y="587160"/>
            <a:ext cx="8820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TIGR MeV: K-Means Clustering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000" y="984240"/>
            <a:ext cx="8217000" cy="639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844720"/>
            <a:ext cx="1195560" cy="546120"/>
          </a:xfrm>
          <a:prstGeom prst="ellipse">
            <a:avLst/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1240" y="2502000"/>
            <a:ext cx="21877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Choo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79760" y="3422520"/>
            <a:ext cx="119700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4960" y="4294080"/>
            <a:ext cx="2301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detailed array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43000" y="5133960"/>
            <a:ext cx="2480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detailed sample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20960" y="4665600"/>
            <a:ext cx="135864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12560" y="5295960"/>
            <a:ext cx="207036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520" y="368280"/>
            <a:ext cx="99885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db.systemsbiology.net/sbeams/cgi/Microarray/ProjectHome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209680" y="3554280"/>
            <a:ext cx="10162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Complete the analysis pipeline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Start to check data for MIAME compliance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Make MAGE XML export possible 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erif"/>
              </a:rPr>
              <a:t>Should simplify submitting results for publication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21328" b="0"/>
          <a:stretch/>
        </p:blipFill>
        <p:spPr>
          <a:xfrm>
            <a:off x="849240" y="2666880"/>
            <a:ext cx="6272280" cy="4894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4760" y="357120"/>
            <a:ext cx="900756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Add Sample information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Sample Tag, Sample Group automatically filled in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Users must fill in full sample tag before any additional information is submitted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erif"/>
              </a:rPr>
              <a:t>Data is not checked for MIAME compliance</a:t>
            </a:r>
            <a:endParaRPr b="0" lang="en-US" sz="2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080" y="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Use templates to speed data entry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5000" y="134280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nter first sample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Type in a name in the save template and save template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Go back and choose the next sample to annotate.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Scroll to the bottom select the temple from the drop down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Click the button “Set fields to this template”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Make any additional edits and Click “Update”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0662" t="0" r="35548" b="49231"/>
          <a:stretch/>
        </p:blipFill>
        <p:spPr>
          <a:xfrm>
            <a:off x="155520" y="2089080"/>
            <a:ext cx="5394240" cy="36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7560" y="4646520"/>
            <a:ext cx="1239840" cy="360360"/>
          </a:xfrm>
          <a:prstGeom prst="ellipse">
            <a:avLst/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7280" y="4751280"/>
            <a:ext cx="1820880" cy="720720"/>
          </a:xfrm>
          <a:prstGeom prst="ellipse">
            <a:avLst/>
          </a:prstGeom>
          <a:noFill/>
          <a:ln w="36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7520" y="63360"/>
            <a:ext cx="860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File Down Load Info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1840" y="809280"/>
            <a:ext cx="8607240" cy="63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All checked files will be bundled together into a single zip archive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Files that are viewable from the browser have a hyper link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File types available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CEL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erif"/>
              </a:rPr>
              <a:t>Binary Affymetrix file. The CEL file stores the results of the intensity calculations on the pixel values of the DAT file</a:t>
            </a:r>
            <a:endParaRPr b="0" lang="en-US" sz="18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CHP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erif"/>
              </a:rPr>
              <a:t>Binary Affymetrix file. CHP files contain probe set analysis results generated from Affymetrix software</a:t>
            </a:r>
            <a:endParaRPr b="0" lang="en-US" sz="18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XML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erif"/>
              </a:rPr>
              <a:t>MAGE XML Affymetrix file.  Contains information from Affymetrix GCOS Software collected during sample preparation, hybridization, washing and scanning.</a:t>
            </a:r>
            <a:endParaRPr b="0" lang="en-US" sz="18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RPT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erif"/>
              </a:rPr>
              <a:t>Text report.  Contains information about the CHP file, used for basic quality control</a:t>
            </a:r>
            <a:endParaRPr b="0" lang="en-US" sz="18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41200" y="422280"/>
            <a:ext cx="907416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Files continued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R_CHP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82320" indent="-21348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Text File.  Contains Probe set intensity values, calculated by using R/Bioconductor or affy mas5.0 algorithm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JPEG.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82320" indent="-21348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Jpeg image of the Affy Chip generated by R using the image method within the affy library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GRAM_PF.jpg. 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82320" indent="-21348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lectrophoregram image of the Pre-fragmented cRNA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GRAM_T.jpg. 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82320" indent="-21348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lectrophoregram image of the total RNA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GRAM_F.jpg.  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82320" indent="-21348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Electrophoregram image of the fragmented cRNA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1960" y="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Data down load page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0240" y="105228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Many files can be directly viewed or downloaded from the Data Download Tab of the Microarray Project Home page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797200"/>
            <a:ext cx="8475840" cy="4762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32040" y="3922560"/>
            <a:ext cx="1243080" cy="727200"/>
          </a:xfrm>
          <a:prstGeom prst="ellipse">
            <a:avLst/>
          </a:prstGeom>
          <a:noFill/>
          <a:ln w="547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3280" y="5715000"/>
            <a:ext cx="1725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les types to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90440" y="5375160"/>
            <a:ext cx="2733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les that can be downloa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7840" y="5133960"/>
            <a:ext cx="49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199120"/>
            <a:ext cx="48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3440" y="4890960"/>
            <a:ext cx="36201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t or de-select all files to down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78280" y="5940360"/>
            <a:ext cx="117792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70720" y="5699160"/>
            <a:ext cx="16621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01520" y="5280120"/>
            <a:ext cx="81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7080" y="15876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Viewing Affy Expression Data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1293840"/>
            <a:ext cx="8607240" cy="51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Currently two web pages are available to query the expression values derived from R_CHP data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erif"/>
              </a:rPr>
              <a:t>What is an R_CHP file?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It's a text file, containing probe set intensity values, calculated using R/Bioconductor affy mas5.0 algorithm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affy/isb_help.php?help_page=Make_R_CHP_file.xml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  <a:p>
            <a:pPr marL="431640" indent="-323640">
              <a:lnSpc>
                <a:spcPct val="97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erif"/>
              </a:rPr>
              <a:t>Is the data any good?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Tests by Bruz and other groups show a very good correlation between Affymetrix GCOS Mas 5.0 values and R-Mas5 values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erif"/>
              </a:rPr>
              <a:t>See the help pages for more info</a:t>
            </a:r>
            <a:endParaRPr b="0" lang="en-US" sz="20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 u="sng">
                <a:solidFill>
                  <a:srgbClr val="ccccff"/>
                </a:solidFill>
                <a:uFillTx/>
                <a:latin typeface="Bitstream Vera Serif"/>
                <a:hlinkClick r:id="rId2"/>
              </a:rPr>
              <a:t>http://affy/isb_help.php?help_page=R_GCOS_comparison.xml</a:t>
            </a:r>
            <a:endParaRPr b="0" lang="en-US" sz="15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