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M is a method that tries to identify changes in gene expression between different biological condi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determine the significance of these changes (while accounting for an enormous number of ge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e http://davidmlane.com/hyperstat/B58842.html for further details about s(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ssive amounts of data are generated in a single hybridization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lso, there is a lot of 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sher’s linear discriminant- see the “Discrimination Methods” l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e http://mathworld.wolfram.com/Pairedt-Test.html for further details about t-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M assigns a score to each gene on the basis of change in gene expression relative to the standard dev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 genes with scores greater than an adjustable threshold, SAM uses permutations of the measurements to estimate the F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9720" y="271440"/>
            <a:ext cx="775944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9720" y="271440"/>
            <a:ext cx="775944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custGeom>
            <a:avLst/>
            <a:gdLst>
              <a:gd name="textAreaLeft" fmla="*/ 360 w 762120"/>
              <a:gd name="textAreaRight" fmla="*/ 761760 w 7621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94288">
                <a:moveTo>
                  <a:pt x="45" y="0"/>
                </a:moveTo>
                <a:arcTo wR="45" hR="45" stAng="16200000" swAng="-5400000"/>
                <a:lnTo>
                  <a:pt x="0" y="194243"/>
                </a:lnTo>
                <a:arcTo wR="45" hR="45" stAng="10800000" swAng="-5400000"/>
                <a:lnTo>
                  <a:pt x="21555" y="194288"/>
                </a:lnTo>
                <a:arcTo wR="45" hR="45" stAng="5400000" swAng="-5400000"/>
                <a:lnTo>
                  <a:pt x="21600" y="45"/>
                </a:lnTo>
                <a:arcTo wR="45" hR="45" stAng="0" swAng="-5400000"/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2743200" cy="1166760"/>
          </a:xfrm>
          <a:custGeom>
            <a:avLst/>
            <a:gdLst/>
            <a:ahLst/>
            <a:rect l="l" t="t" r="r" b="b"/>
            <a:pathLst>
              <a:path w="7621" h="3243">
                <a:moveTo>
                  <a:pt x="7620" y="0"/>
                </a:moveTo>
                <a:lnTo>
                  <a:pt x="7620" y="2117"/>
                </a:lnTo>
                <a:lnTo>
                  <a:pt x="1675" y="2126"/>
                </a:lnTo>
                <a:lnTo>
                  <a:pt x="1561" y="2117"/>
                </a:lnTo>
                <a:lnTo>
                  <a:pt x="1358" y="2156"/>
                </a:lnTo>
                <a:cubicBezTo>
                  <a:pt x="1278" y="2196"/>
                  <a:pt x="1159" y="2262"/>
                  <a:pt x="1084" y="2342"/>
                </a:cubicBezTo>
                <a:cubicBezTo>
                  <a:pt x="1009" y="2421"/>
                  <a:pt x="948" y="2531"/>
                  <a:pt x="908" y="2633"/>
                </a:cubicBezTo>
                <a:cubicBezTo>
                  <a:pt x="868" y="2734"/>
                  <a:pt x="855" y="2836"/>
                  <a:pt x="846" y="2937"/>
                </a:cubicBezTo>
                <a:lnTo>
                  <a:pt x="846" y="3242"/>
                </a:lnTo>
                <a:lnTo>
                  <a:pt x="0" y="3242"/>
                </a:lnTo>
                <a:lnTo>
                  <a:pt x="0" y="2117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50920" y="1268280"/>
            <a:ext cx="7010280" cy="317520"/>
          </a:xfrm>
          <a:prstGeom prst="roundRect">
            <a:avLst>
              <a:gd name="adj" fmla="val 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0040" y="1268280"/>
            <a:ext cx="393480" cy="320760"/>
          </a:xfrm>
          <a:custGeom>
            <a:avLst/>
            <a:gdLst/>
            <a:ahLst/>
            <a:rect l="l" t="t" r="r" b="b"/>
            <a:pathLst>
              <a:path w="1095" h="889">
                <a:moveTo>
                  <a:pt x="547" y="0"/>
                </a:moveTo>
                <a:cubicBezTo>
                  <a:pt x="274" y="0"/>
                  <a:pt x="0" y="222"/>
                  <a:pt x="0" y="444"/>
                </a:cubicBezTo>
                <a:cubicBezTo>
                  <a:pt x="0" y="666"/>
                  <a:pt x="274" y="888"/>
                  <a:pt x="547" y="888"/>
                </a:cubicBezTo>
                <a:lnTo>
                  <a:pt x="1094" y="888"/>
                </a:lnTo>
                <a:lnTo>
                  <a:pt x="1094" y="0"/>
                </a:lnTo>
                <a:lnTo>
                  <a:pt x="547" y="0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40" y="624096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8FF3-C09E-4DDF-8B34-F717FE48479C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271440"/>
            <a:ext cx="7759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4572000" cy="6858000"/>
            </a:xfrm>
            <a:custGeom>
              <a:avLst/>
              <a:gdLst>
                <a:gd name="textAreaLeft" fmla="*/ 360 w 4572000"/>
                <a:gd name="textAreaRight" fmla="*/ 4571640 w 4572000"/>
                <a:gd name="textAreaTop" fmla="*/ 360 h 6858000"/>
                <a:gd name="textAreaBottom" fmla="*/ 6857640 h 6858000"/>
              </a:gdLst>
              <a:ahLst/>
              <a:rect l="textAreaLeft" t="textAreaTop" r="textAreaRight" b="textAreaBottom"/>
              <a:pathLst>
                <a:path w="21600" h="32399">
                  <a:moveTo>
                    <a:pt x="7" y="0"/>
                  </a:moveTo>
                  <a:arcTo wR="7" hR="7" stAng="16200000" swAng="-5400000"/>
                  <a:lnTo>
                    <a:pt x="0" y="32392"/>
                  </a:lnTo>
                  <a:arcTo wR="7" hR="7" stAng="10800000" swAng="-5400000"/>
                  <a:lnTo>
                    <a:pt x="21593" y="32399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50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custGeom>
              <a:avLst/>
              <a:gdLst/>
              <a:ahLst/>
              <a:rect l="l" t="t" r="r" b="b"/>
              <a:pathLst>
                <a:path w="724" h="887">
                  <a:moveTo>
                    <a:pt x="361" y="0"/>
                  </a:moveTo>
                  <a:cubicBezTo>
                    <a:pt x="542" y="0"/>
                    <a:pt x="723" y="221"/>
                    <a:pt x="723" y="443"/>
                  </a:cubicBezTo>
                  <a:cubicBezTo>
                    <a:pt x="723" y="664"/>
                    <a:pt x="542" y="886"/>
                    <a:pt x="361" y="886"/>
                  </a:cubicBezTo>
                  <a:lnTo>
                    <a:pt x="0" y="886"/>
                  </a:lnTo>
                  <a:lnTo>
                    <a:pt x="0" y="0"/>
                  </a:lnTo>
                  <a:lnTo>
                    <a:pt x="361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24744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507-818C-44FD-AACB-466FD64C4826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3320" y="1307880"/>
            <a:ext cx="75945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-stat-class.stanford.edu/SAM/servlet/SAMServlet" TargetMode="Externa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318680"/>
            <a:ext cx="8229600" cy="13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Significance analysis of Microarrays (SA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0160" y="2808360"/>
            <a:ext cx="640080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Applied to the ionizing radiation respon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35280" y="4479840"/>
            <a:ext cx="4961160" cy="1368360"/>
            <a:chOff x="3635280" y="4479840"/>
            <a:chExt cx="4961160" cy="1368360"/>
          </a:xfrm>
        </p:grpSpPr>
        <p:sp>
          <p:nvSpPr>
            <p:cNvPr id="97" name=""/>
            <p:cNvSpPr/>
            <p:nvPr/>
          </p:nvSpPr>
          <p:spPr>
            <a:xfrm>
              <a:off x="3635280" y="4479840"/>
              <a:ext cx="4961160" cy="1368360"/>
            </a:xfrm>
            <a:prstGeom prst="roundRect">
              <a:avLst>
                <a:gd name="adj" fmla="val 1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4479840"/>
              <a:ext cx="49611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usher, Tibshirani, Chu (200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afna Shah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160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163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167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170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173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176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179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187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191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Experi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78000" y="2444760"/>
            <a:ext cx="3052800" cy="3135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184464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human lymphoblastoid cell li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6165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ight hybridizations were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00560" y="2444760"/>
            <a:ext cx="3052800" cy="31352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411280" y="3803760"/>
            <a:ext cx="719280" cy="431640"/>
            <a:chOff x="2411280" y="3803760"/>
            <a:chExt cx="719280" cy="431640"/>
          </a:xfrm>
        </p:grpSpPr>
        <p:sp>
          <p:nvSpPr>
            <p:cNvPr id="199" name=""/>
            <p:cNvSpPr/>
            <p:nvPr/>
          </p:nvSpPr>
          <p:spPr>
            <a:xfrm>
              <a:off x="2411280" y="3803760"/>
              <a:ext cx="719280" cy="43164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803760"/>
              <a:ext cx="719280" cy="43164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372360" y="3860640"/>
            <a:ext cx="718920" cy="432000"/>
            <a:chOff x="6372360" y="3860640"/>
            <a:chExt cx="718920" cy="432000"/>
          </a:xfrm>
        </p:grpSpPr>
        <p:sp>
          <p:nvSpPr>
            <p:cNvPr id="202" name=""/>
            <p:cNvSpPr/>
            <p:nvPr/>
          </p:nvSpPr>
          <p:spPr>
            <a:xfrm>
              <a:off x="6372360" y="386064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72360" y="386064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4" name=""/>
          <p:cNvCxnSpPr/>
          <p:nvPr/>
        </p:nvCxnSpPr>
        <p:spPr>
          <a:xfrm>
            <a:off x="899640" y="4005360"/>
            <a:ext cx="3817080" cy="2160"/>
          </a:xfrm>
          <a:prstGeom prst="straightConnector1">
            <a:avLst/>
          </a:prstGeom>
          <a:ln w="50760">
            <a:solidFill>
              <a:srgbClr val="003366"/>
            </a:solidFill>
            <a:miter/>
          </a:ln>
        </p:spPr>
      </p:cxnSp>
      <p:cxnSp>
        <p:nvCxnSpPr>
          <p:cNvPr id="205" name=""/>
          <p:cNvCxnSpPr/>
          <p:nvPr/>
        </p:nvCxnSpPr>
        <p:spPr>
          <a:xfrm>
            <a:off x="4858920" y="4005360"/>
            <a:ext cx="3817080" cy="2160"/>
          </a:xfrm>
          <a:prstGeom prst="straightConnector1">
            <a:avLst/>
          </a:prstGeom>
          <a:ln w="50760">
            <a:solidFill>
              <a:srgbClr val="003366"/>
            </a:solidFill>
            <a:miter/>
          </a:ln>
        </p:spPr>
      </p:cxnSp>
      <p:grpSp>
        <p:nvGrpSpPr>
          <p:cNvPr id="206" name=""/>
          <p:cNvGrpSpPr/>
          <p:nvPr/>
        </p:nvGrpSpPr>
        <p:grpSpPr>
          <a:xfrm>
            <a:off x="2411280" y="3213000"/>
            <a:ext cx="719280" cy="432000"/>
            <a:chOff x="2411280" y="3213000"/>
            <a:chExt cx="719280" cy="432000"/>
          </a:xfrm>
        </p:grpSpPr>
        <p:sp>
          <p:nvSpPr>
            <p:cNvPr id="207" name=""/>
            <p:cNvSpPr/>
            <p:nvPr/>
          </p:nvSpPr>
          <p:spPr>
            <a:xfrm>
              <a:off x="2411280" y="3213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11280" y="3213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372360" y="3213000"/>
            <a:ext cx="718920" cy="432000"/>
            <a:chOff x="6372360" y="3213000"/>
            <a:chExt cx="718920" cy="432000"/>
          </a:xfrm>
        </p:grpSpPr>
        <p:sp>
          <p:nvSpPr>
            <p:cNvPr id="210" name=""/>
            <p:cNvSpPr/>
            <p:nvPr/>
          </p:nvSpPr>
          <p:spPr>
            <a:xfrm>
              <a:off x="6372360" y="3213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72360" y="3213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11280" y="4437000"/>
            <a:ext cx="719280" cy="432000"/>
            <a:chOff x="2411280" y="4437000"/>
            <a:chExt cx="719280" cy="432000"/>
          </a:xfrm>
        </p:grpSpPr>
        <p:sp>
          <p:nvSpPr>
            <p:cNvPr id="213" name=""/>
            <p:cNvSpPr/>
            <p:nvPr/>
          </p:nvSpPr>
          <p:spPr>
            <a:xfrm>
              <a:off x="2411280" y="4437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11280" y="4437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372360" y="4437000"/>
            <a:ext cx="718920" cy="432000"/>
            <a:chOff x="6372360" y="4437000"/>
            <a:chExt cx="718920" cy="432000"/>
          </a:xfrm>
        </p:grpSpPr>
        <p:sp>
          <p:nvSpPr>
            <p:cNvPr id="216" name=""/>
            <p:cNvSpPr/>
            <p:nvPr/>
          </p:nvSpPr>
          <p:spPr>
            <a:xfrm>
              <a:off x="6372360" y="4437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72360" y="4437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8" name=""/>
          <p:cNvCxnSpPr>
            <a:stCxn id="194" idx="2"/>
            <a:endCxn id="194" idx="0"/>
          </p:cNvCxnSpPr>
          <p:nvPr/>
        </p:nvCxnSpPr>
        <p:spPr>
          <a:xfrm flipV="1">
            <a:off x="2805120" y="2444040"/>
            <a:ext cx="2160" cy="3135960"/>
          </a:xfrm>
          <a:prstGeom prst="straightConnector1">
            <a:avLst/>
          </a:prstGeom>
          <a:ln w="50760">
            <a:solidFill>
              <a:srgbClr val="003366"/>
            </a:solidFill>
            <a:miter/>
          </a:ln>
        </p:spPr>
      </p:cxnSp>
      <p:cxnSp>
        <p:nvCxnSpPr>
          <p:cNvPr id="219" name=""/>
          <p:cNvCxnSpPr/>
          <p:nvPr/>
        </p:nvCxnSpPr>
        <p:spPr>
          <a:xfrm flipV="1">
            <a:off x="6732720" y="2420280"/>
            <a:ext cx="2160" cy="3135960"/>
          </a:xfrm>
          <a:prstGeom prst="straightConnector1">
            <a:avLst/>
          </a:prstGeom>
          <a:ln w="50760">
            <a:solidFill>
              <a:srgbClr val="003366"/>
            </a:solidFill>
            <a:miter/>
          </a:ln>
        </p:spPr>
      </p:cxnSp>
      <p:grpSp>
        <p:nvGrpSpPr>
          <p:cNvPr id="220" name=""/>
          <p:cNvGrpSpPr/>
          <p:nvPr/>
        </p:nvGrpSpPr>
        <p:grpSpPr>
          <a:xfrm>
            <a:off x="1763640" y="3213000"/>
            <a:ext cx="719280" cy="432000"/>
            <a:chOff x="1763640" y="3213000"/>
            <a:chExt cx="719280" cy="432000"/>
          </a:xfrm>
        </p:grpSpPr>
        <p:sp>
          <p:nvSpPr>
            <p:cNvPr id="221" name=""/>
            <p:cNvSpPr/>
            <p:nvPr/>
          </p:nvSpPr>
          <p:spPr>
            <a:xfrm>
              <a:off x="1763640" y="3213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3640" y="3213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059280" y="3213000"/>
            <a:ext cx="718920" cy="432000"/>
            <a:chOff x="3059280" y="3213000"/>
            <a:chExt cx="718920" cy="432000"/>
          </a:xfrm>
        </p:grpSpPr>
        <p:sp>
          <p:nvSpPr>
            <p:cNvPr id="224" name=""/>
            <p:cNvSpPr/>
            <p:nvPr/>
          </p:nvSpPr>
          <p:spPr>
            <a:xfrm>
              <a:off x="3059280" y="3213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59280" y="3213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97440" y="3213000"/>
            <a:ext cx="719280" cy="432000"/>
            <a:chOff x="5797440" y="3213000"/>
            <a:chExt cx="719280" cy="432000"/>
          </a:xfrm>
        </p:grpSpPr>
        <p:sp>
          <p:nvSpPr>
            <p:cNvPr id="227" name=""/>
            <p:cNvSpPr/>
            <p:nvPr/>
          </p:nvSpPr>
          <p:spPr>
            <a:xfrm>
              <a:off x="5797440" y="3213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7440" y="3213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93080" y="3213000"/>
            <a:ext cx="718920" cy="432000"/>
            <a:chOff x="7093080" y="3213000"/>
            <a:chExt cx="718920" cy="432000"/>
          </a:xfrm>
        </p:grpSpPr>
        <p:sp>
          <p:nvSpPr>
            <p:cNvPr id="230" name=""/>
            <p:cNvSpPr/>
            <p:nvPr/>
          </p:nvSpPr>
          <p:spPr>
            <a:xfrm>
              <a:off x="7093080" y="3213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3080" y="3213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2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763640" y="4437000"/>
            <a:ext cx="719280" cy="432000"/>
            <a:chOff x="1763640" y="4437000"/>
            <a:chExt cx="719280" cy="432000"/>
          </a:xfrm>
        </p:grpSpPr>
        <p:sp>
          <p:nvSpPr>
            <p:cNvPr id="233" name=""/>
            <p:cNvSpPr/>
            <p:nvPr/>
          </p:nvSpPr>
          <p:spPr>
            <a:xfrm>
              <a:off x="1763640" y="4437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3640" y="4437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59280" y="4437000"/>
            <a:ext cx="718920" cy="432000"/>
            <a:chOff x="3059280" y="4437000"/>
            <a:chExt cx="718920" cy="432000"/>
          </a:xfrm>
        </p:grpSpPr>
        <p:sp>
          <p:nvSpPr>
            <p:cNvPr id="236" name=""/>
            <p:cNvSpPr/>
            <p:nvPr/>
          </p:nvSpPr>
          <p:spPr>
            <a:xfrm>
              <a:off x="3059280" y="4437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59280" y="4437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97440" y="4437000"/>
            <a:ext cx="719280" cy="432000"/>
            <a:chOff x="5797440" y="4437000"/>
            <a:chExt cx="719280" cy="432000"/>
          </a:xfrm>
        </p:grpSpPr>
        <p:sp>
          <p:nvSpPr>
            <p:cNvPr id="239" name=""/>
            <p:cNvSpPr/>
            <p:nvPr/>
          </p:nvSpPr>
          <p:spPr>
            <a:xfrm>
              <a:off x="5797440" y="4437000"/>
              <a:ext cx="71928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97440" y="4437000"/>
              <a:ext cx="71928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093080" y="4437000"/>
            <a:ext cx="718920" cy="432000"/>
            <a:chOff x="7093080" y="4437000"/>
            <a:chExt cx="718920" cy="432000"/>
          </a:xfrm>
        </p:grpSpPr>
        <p:sp>
          <p:nvSpPr>
            <p:cNvPr id="242" name=""/>
            <p:cNvSpPr/>
            <p:nvPr/>
          </p:nvSpPr>
          <p:spPr>
            <a:xfrm>
              <a:off x="7093080" y="4437000"/>
              <a:ext cx="718920" cy="432000"/>
            </a:xfrm>
            <a:prstGeom prst="roundRect">
              <a:avLst>
                <a:gd name="adj" fmla="val 36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3080" y="4437000"/>
              <a:ext cx="718920" cy="432000"/>
            </a:xfrm>
            <a:prstGeom prst="roundRect">
              <a:avLst>
                <a:gd name="adj" fmla="val 36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2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ca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48044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Scale the dat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Use technique known as “linear normalization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Twist- use cube roo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irst glance at the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092560" y="1830240"/>
            <a:ext cx="4051440" cy="4094280"/>
            <a:chOff x="5092560" y="1830240"/>
            <a:chExt cx="4051440" cy="40942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5092560" y="1830240"/>
              <a:ext cx="4051440" cy="40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092560" y="1830240"/>
              <a:ext cx="405144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65000" y="1844640"/>
            <a:ext cx="409428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to find the significant changes? Naïve metho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897440" cy="48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255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258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262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265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268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271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274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282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286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AM’s statistic- Relative Differ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715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Define a statistic, based on the ratio of change in gene expression to standard deviation in the data for this ge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184400" y="2859120"/>
                <a:ext cx="3500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5364000" y="2708280"/>
            <a:ext cx="3024360" cy="792000"/>
            <a:chOff x="5364000" y="2708280"/>
            <a:chExt cx="3024360" cy="792000"/>
          </a:xfrm>
        </p:grpSpPr>
        <p:sp>
          <p:nvSpPr>
            <p:cNvPr id="292" name=""/>
            <p:cNvSpPr/>
            <p:nvPr/>
          </p:nvSpPr>
          <p:spPr>
            <a:xfrm>
              <a:off x="5364000" y="2708280"/>
              <a:ext cx="3024360" cy="792000"/>
            </a:xfrm>
            <a:prstGeom prst="roundRect">
              <a:avLst>
                <a:gd name="adj" fmla="val 199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4000" y="2708280"/>
              <a:ext cx="3024360" cy="792000"/>
            </a:xfrm>
            <a:prstGeom prst="roundRect">
              <a:avLst>
                <a:gd name="adj" fmla="val 19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fference between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ans of the two 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00000" y="4219560"/>
            <a:ext cx="2881440" cy="720720"/>
            <a:chOff x="900000" y="4219560"/>
            <a:chExt cx="2881440" cy="720720"/>
          </a:xfrm>
        </p:grpSpPr>
        <p:sp>
          <p:nvSpPr>
            <p:cNvPr id="295" name=""/>
            <p:cNvSpPr/>
            <p:nvPr/>
          </p:nvSpPr>
          <p:spPr>
            <a:xfrm>
              <a:off x="900000" y="4219560"/>
              <a:ext cx="2881440" cy="7207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0000" y="4219560"/>
              <a:ext cx="2881440" cy="7207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of the standar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viation of the num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003640" y="2995560"/>
            <a:ext cx="433440" cy="146160"/>
          </a:xfrm>
          <a:custGeom>
            <a:avLst/>
            <a:gdLst/>
            <a:ahLst/>
            <a:rect l="l" t="t" r="r" b="b"/>
            <a:pathLst>
              <a:path w="1202" h="407">
                <a:moveTo>
                  <a:pt x="1201" y="101"/>
                </a:moveTo>
                <a:lnTo>
                  <a:pt x="300" y="101"/>
                </a:lnTo>
                <a:lnTo>
                  <a:pt x="300" y="0"/>
                </a:lnTo>
                <a:lnTo>
                  <a:pt x="0" y="203"/>
                </a:lnTo>
                <a:lnTo>
                  <a:pt x="300" y="406"/>
                </a:lnTo>
                <a:lnTo>
                  <a:pt x="300" y="305"/>
                </a:lnTo>
                <a:lnTo>
                  <a:pt x="1201" y="305"/>
                </a:lnTo>
                <a:lnTo>
                  <a:pt x="1201" y="101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645080" y="4003560"/>
            <a:ext cx="1512720" cy="503280"/>
            <a:chOff x="4645080" y="4003560"/>
            <a:chExt cx="1512720" cy="503280"/>
          </a:xfrm>
        </p:grpSpPr>
        <p:sp>
          <p:nvSpPr>
            <p:cNvPr id="299" name=""/>
            <p:cNvSpPr/>
            <p:nvPr/>
          </p:nvSpPr>
          <p:spPr>
            <a:xfrm>
              <a:off x="4645080" y="4003560"/>
              <a:ext cx="1512720" cy="503280"/>
            </a:xfrm>
            <a:prstGeom prst="roundRect">
              <a:avLst>
                <a:gd name="adj" fmla="val 315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45080" y="4003560"/>
              <a:ext cx="1512720" cy="503280"/>
            </a:xfrm>
            <a:prstGeom prst="roundRect">
              <a:avLst>
                <a:gd name="adj" fmla="val 31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udge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60720" y="4003560"/>
            <a:ext cx="287280" cy="287280"/>
          </a:xfrm>
          <a:custGeom>
            <a:avLst/>
            <a:gdLst/>
            <a:ahLst/>
            <a:rect l="l" t="t" r="r" b="b"/>
            <a:pathLst>
              <a:path w="799" h="799">
                <a:moveTo>
                  <a:pt x="0" y="574"/>
                </a:moveTo>
                <a:lnTo>
                  <a:pt x="460" y="574"/>
                </a:lnTo>
                <a:lnTo>
                  <a:pt x="460" y="266"/>
                </a:lnTo>
                <a:lnTo>
                  <a:pt x="345" y="266"/>
                </a:lnTo>
                <a:lnTo>
                  <a:pt x="572" y="0"/>
                </a:lnTo>
                <a:lnTo>
                  <a:pt x="798" y="266"/>
                </a:lnTo>
                <a:lnTo>
                  <a:pt x="684" y="266"/>
                </a:lnTo>
                <a:lnTo>
                  <a:pt x="684" y="798"/>
                </a:lnTo>
                <a:lnTo>
                  <a:pt x="0" y="798"/>
                </a:lnTo>
                <a:lnTo>
                  <a:pt x="0" y="574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5080" y="3714840"/>
            <a:ext cx="287280" cy="360360"/>
          </a:xfrm>
          <a:custGeom>
            <a:avLst/>
            <a:gdLst/>
            <a:ahLst/>
            <a:rect l="l" t="t" r="r" b="b"/>
            <a:pathLst>
              <a:path w="799" h="1003">
                <a:moveTo>
                  <a:pt x="574" y="1002"/>
                </a:moveTo>
                <a:lnTo>
                  <a:pt x="574" y="425"/>
                </a:lnTo>
                <a:lnTo>
                  <a:pt x="266" y="425"/>
                </a:lnTo>
                <a:lnTo>
                  <a:pt x="266" y="569"/>
                </a:lnTo>
                <a:lnTo>
                  <a:pt x="0" y="285"/>
                </a:lnTo>
                <a:lnTo>
                  <a:pt x="266" y="0"/>
                </a:lnTo>
                <a:lnTo>
                  <a:pt x="266" y="144"/>
                </a:lnTo>
                <a:lnTo>
                  <a:pt x="798" y="144"/>
                </a:lnTo>
                <a:lnTo>
                  <a:pt x="798" y="1002"/>
                </a:lnTo>
                <a:lnTo>
                  <a:pt x="574" y="1002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55640" y="5084640"/>
                <a:ext cx="77770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[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492360" y="3429000"/>
            <a:ext cx="719280" cy="503280"/>
          </a:xfrm>
          <a:prstGeom prst="roundRect">
            <a:avLst>
              <a:gd name="adj" fmla="val 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26920" y="1844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low expression levels, variance in d(i) can be high, due to small values of s(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compare d(i) across all genes, the distribution of d(i) should be independent of the level of gene expression and of s(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hoose 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make the coefficient of variation of d(i) approximately constant as a function of s(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s</a:t>
            </a: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0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oosing s</a:t>
            </a: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138400" cy="336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2458800" cy="4392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6759720" y="2608200"/>
            <a:ext cx="2146320" cy="3378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6836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Figures for illustrat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We gave each gene a sco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At what threshold should we call a gene significan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How many false positives can we expec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ow wha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lem at h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: t-Test, multiple hypothesis te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i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st SAM’s val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ther methods-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nts of S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316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319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323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326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329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332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335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343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347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re data requir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98900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periments are expensi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stead, generate permutations of the data (mix the label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n we use all possible permutation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70040" y="981000"/>
            <a:ext cx="741672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lancing the Permu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1700280"/>
            <a:ext cx="8136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differences between the two cell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ced permutations- to minimize the effects of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908000" y="2421000"/>
            <a:ext cx="6048720" cy="1873080"/>
            <a:chOff x="1908000" y="2421000"/>
            <a:chExt cx="6048720" cy="1873080"/>
          </a:xfrm>
        </p:grpSpPr>
        <p:sp>
          <p:nvSpPr>
            <p:cNvPr id="355" name=""/>
            <p:cNvSpPr/>
            <p:nvPr/>
          </p:nvSpPr>
          <p:spPr>
            <a:xfrm>
              <a:off x="1908000" y="2421000"/>
              <a:ext cx="6048720" cy="1873080"/>
            </a:xfrm>
            <a:prstGeom prst="roundRect">
              <a:avLst>
                <a:gd name="adj" fmla="val 8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8000" y="2421000"/>
              <a:ext cx="6048720" cy="187308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 permutation is balanced if each group of fo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xperiments contained two experiments fro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ine 1 and two from line 2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here are 36 balanced permutation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lanced Permu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22600" y="2386080"/>
            <a:ext cx="2216160" cy="2487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357880" y="2444760"/>
            <a:ext cx="21636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38360" y="1243080"/>
            <a:ext cx="840564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363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366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370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373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376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379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382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390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394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987640" y="4724280"/>
            <a:ext cx="2808360" cy="1368720"/>
          </a:xfrm>
          <a:prstGeom prst="roundRect">
            <a:avLst>
              <a:gd name="adj" fmla="val 11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00000" y="1844640"/>
            <a:ext cx="7570800" cy="4753080"/>
            <a:chOff x="900000" y="1844640"/>
            <a:chExt cx="7570800" cy="4753080"/>
          </a:xfrm>
        </p:grpSpPr>
        <p:sp>
          <p:nvSpPr>
            <p:cNvPr id="398" name=""/>
            <p:cNvSpPr/>
            <p:nvPr/>
          </p:nvSpPr>
          <p:spPr>
            <a:xfrm>
              <a:off x="900000" y="1844640"/>
              <a:ext cx="7570800" cy="47530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0000" y="1844640"/>
              <a:ext cx="7570800" cy="44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For each permutation p, calculate d</a:t>
              </a: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</a:rPr>
                <a:t>p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(i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Rank genes by magnitud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Def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stimating d(i)’s Order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700360" y="3860640"/>
            <a:ext cx="4172040" cy="557280"/>
            <a:chOff x="2700360" y="3860640"/>
            <a:chExt cx="4172040" cy="5572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700360" y="3860640"/>
                  <a:ext cx="41720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2700360" y="3860640"/>
              <a:ext cx="41720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132000" y="4941720"/>
                <a:ext cx="251964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3060720" y="2276640"/>
            <a:ext cx="2949480" cy="928440"/>
            <a:chOff x="3060720" y="2276640"/>
            <a:chExt cx="2949480" cy="928440"/>
          </a:xfrm>
        </p:grpSpPr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3060720" y="2276640"/>
                  <a:ext cx="2949480" cy="92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G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7" name=""/>
            <p:cNvSpPr/>
            <p:nvPr/>
          </p:nvSpPr>
          <p:spPr>
            <a:xfrm>
              <a:off x="3060720" y="2276640"/>
              <a:ext cx="294948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55640" y="1658880"/>
            <a:ext cx="8137440" cy="32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412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415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419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422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425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428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431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439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ffcc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443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2205000"/>
            <a:ext cx="3097440" cy="43200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708280"/>
            <a:ext cx="7345440" cy="43164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lem at h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: t-Test, multiple hypothesis te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i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st SAM’s val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ther methods-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nts of S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755640" y="306864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ot d(i) vs. d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i)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most of the genes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547640" y="4795920"/>
                <a:ext cx="2154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693720" y="1916280"/>
            <a:ext cx="4681440" cy="754920"/>
            <a:chOff x="693720" y="1916280"/>
            <a:chExt cx="4681440" cy="754920"/>
          </a:xfrm>
        </p:grpSpPr>
        <p:sp>
          <p:nvSpPr>
            <p:cNvPr id="448" name=""/>
            <p:cNvSpPr/>
            <p:nvPr/>
          </p:nvSpPr>
          <p:spPr>
            <a:xfrm>
              <a:off x="693720" y="1916280"/>
              <a:ext cx="4681440" cy="57600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3720" y="1916280"/>
              <a:ext cx="468144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Now Rank the original d(i)’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042920" y="2347920"/>
                <a:ext cx="3384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86400" y="22176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826920" y="4330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dentifying Significant G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996920" y="5229360"/>
            <a:ext cx="2953080" cy="43164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03480" y="4365720"/>
            <a:ext cx="287280" cy="360360"/>
          </a:xfrm>
          <a:custGeom>
            <a:avLst/>
            <a:gdLst>
              <a:gd name="textAreaLeft" fmla="*/ 360 w 287280"/>
              <a:gd name="textAreaRight" fmla="*/ 286920 w 28728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27088">
                <a:moveTo>
                  <a:pt x="120" y="0"/>
                </a:moveTo>
                <a:arcTo wR="120" hR="120" stAng="16200000" swAng="-5400000"/>
                <a:lnTo>
                  <a:pt x="0" y="26968"/>
                </a:lnTo>
                <a:arcTo wR="120" hR="120" stAng="10800000" swAng="-5400000"/>
                <a:lnTo>
                  <a:pt x="21480" y="27088"/>
                </a:lnTo>
                <a:arcTo wR="120" hR="120" stAng="5400000" swAng="-5400000"/>
                <a:lnTo>
                  <a:pt x="21600" y="120"/>
                </a:lnTo>
                <a:arcTo wR="120" hR="12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8000" y="3573360"/>
            <a:ext cx="287640" cy="360360"/>
          </a:xfrm>
          <a:custGeom>
            <a:avLst/>
            <a:gdLst>
              <a:gd name="textAreaLeft" fmla="*/ 360 w 287640"/>
              <a:gd name="textAreaRight" fmla="*/ 287280 w 287640"/>
              <a:gd name="textAreaTop" fmla="*/ 360 h 360360"/>
              <a:gd name="textAreaBottom" fmla="*/ 360000 h 360360"/>
            </a:gdLst>
            <a:ahLst/>
            <a:rect l="textAreaLeft" t="textAreaTop" r="textAreaRight" b="textAreaBottom"/>
            <a:pathLst>
              <a:path w="21600" h="27054">
                <a:moveTo>
                  <a:pt x="120" y="0"/>
                </a:moveTo>
                <a:arcTo wR="120" hR="120" stAng="16200000" swAng="-5400000"/>
                <a:lnTo>
                  <a:pt x="0" y="26934"/>
                </a:lnTo>
                <a:arcTo wR="120" hR="120" stAng="10800000" swAng="-5400000"/>
                <a:lnTo>
                  <a:pt x="21480" y="27054"/>
                </a:lnTo>
                <a:arcTo wR="120" hR="120" stAng="5400000" swAng="-5400000"/>
                <a:lnTo>
                  <a:pt x="21600" y="120"/>
                </a:lnTo>
                <a:arcTo wR="120" hR="12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899640" y="2060640"/>
            <a:ext cx="78598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fine a threshold, 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ind the smallest positive d(i) such th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216240" y="3041640"/>
                <a:ext cx="2681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≥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8" name=""/>
          <p:cNvGrpSpPr/>
          <p:nvPr/>
        </p:nvGrpSpPr>
        <p:grpSpPr>
          <a:xfrm>
            <a:off x="826920" y="3500280"/>
            <a:ext cx="8136000" cy="2691000"/>
            <a:chOff x="826920" y="3500280"/>
            <a:chExt cx="8136000" cy="2691000"/>
          </a:xfrm>
        </p:grpSpPr>
        <p:sp>
          <p:nvSpPr>
            <p:cNvPr id="459" name=""/>
            <p:cNvSpPr/>
            <p:nvPr/>
          </p:nvSpPr>
          <p:spPr>
            <a:xfrm>
              <a:off x="826920" y="3500280"/>
              <a:ext cx="8136000" cy="269100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6920" y="3500280"/>
              <a:ext cx="81360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call it t</a:t>
              </a: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In a similar manner, find the largest negative d(i). Call it t</a:t>
              </a: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For each gene i, if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call it potentially signific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832200" y="4338720"/>
                <a:ext cx="3303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826920" y="606600"/>
            <a:ext cx="7925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dentifying Significant G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784080" y="1125360"/>
            <a:ext cx="1366920" cy="648000"/>
          </a:xfrm>
          <a:prstGeom prst="roundRect">
            <a:avLst>
              <a:gd name="adj" fmla="val 24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328000" cy="5327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7093080" y="981000"/>
            <a:ext cx="1366560" cy="647640"/>
          </a:xfrm>
          <a:prstGeom prst="roundRect">
            <a:avLst>
              <a:gd name="adj" fmla="val 24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09360" y="271440"/>
            <a:ext cx="7761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ere are these gen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70400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470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473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477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480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483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486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489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497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501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6920" y="269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stimate FD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85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nd t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will be used as cutoff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lculate the average number of genes that exceed these values in the permuta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ery similar to the Gap Estimation algorithm for clustering, shown in a previous lec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timate the number of falsely significant genes, under H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vide by the number of genes called signific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692360" y="4653000"/>
                <a:ext cx="6426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∨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900000" y="2060640"/>
            <a:ext cx="7417080" cy="1655640"/>
          </a:xfrm>
          <a:prstGeom prst="roundRect">
            <a:avLst>
              <a:gd name="adj" fmla="val 93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DR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900000" y="2276640"/>
                <a:ext cx="7336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DR</m:t>
                    </m:r>
                    <m:r>
                      <m:t xml:space="preserve">≈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∨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∨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9" name=""/>
          <p:cNvGrpSpPr/>
          <p:nvPr/>
        </p:nvGrpSpPr>
        <p:grpSpPr>
          <a:xfrm>
            <a:off x="1692360" y="4221000"/>
            <a:ext cx="6167520" cy="1081080"/>
            <a:chOff x="1692360" y="4221000"/>
            <a:chExt cx="6167520" cy="1081080"/>
          </a:xfrm>
        </p:grpSpPr>
        <p:sp>
          <p:nvSpPr>
            <p:cNvPr id="510" name=""/>
            <p:cNvSpPr/>
            <p:nvPr/>
          </p:nvSpPr>
          <p:spPr>
            <a:xfrm>
              <a:off x="1692360" y="4221000"/>
              <a:ext cx="6167520" cy="108108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92360" y="4221000"/>
              <a:ext cx="616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Note: Cutoffs are asymmet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2458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771640" y="4941720"/>
                <a:ext cx="430236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DR</m:t>
                    </m:r>
                    <m:r>
                      <m:t xml:space="preserve">≈</m:t>
                    </m:r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3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47640" y="1671480"/>
            <a:ext cx="6347160" cy="33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to choose Δ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259760" cy="2084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484360" y="5373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mitting 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used higher FD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st SAM’s valid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693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0 out of 34 genes found have been reported in the literature as part of the response to 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9 appear to be involved in the cell cy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4 play role in DNA repa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 Northern Blot- strong correlation f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rtificial data sets- some genes induced, background n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Problem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dentifying differentially expressed gen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termine which changes are signific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normous number of g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522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525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529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532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535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538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541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549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553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187280" y="4724280"/>
            <a:ext cx="2737080" cy="43344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87280" y="4221000"/>
            <a:ext cx="4608720" cy="43200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lem at h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: t-Test, multiple hypothesis te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i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st SAM’s val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ther methods-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nts of S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her Methods- Compari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002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-fold Metho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ne i is significant if  r(i)&gt;R or r(i)&lt;1/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DR 73%-84%  - Unaccep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irwise fold change:  At least 12 out of 16 pairings satisfying the criteria.  FDR 60%-71% - Unaccept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y doesn’t it wor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521160" y="1585800"/>
                <a:ext cx="158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old-change, SAM- Vali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26768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779400" y="1052640"/>
            <a:ext cx="1366920" cy="647640"/>
          </a:xfrm>
          <a:prstGeom prst="roundRect">
            <a:avLst>
              <a:gd name="adj" fmla="val 24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93080" y="981000"/>
            <a:ext cx="1366560" cy="647640"/>
          </a:xfrm>
          <a:prstGeom prst="roundRect">
            <a:avLst>
              <a:gd name="adj" fmla="val 24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0720" cy="53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ultiple t-Te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693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ying to keep the FDR or F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doesn’t it work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WER- too stringent (Bonferroni, Westfall and You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DR- too granular (Benjamini and Hochber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does not assume normal distribution of th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works effectively even with small sample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luste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herent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ittle information about statistical signific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09360" y="271440"/>
            <a:ext cx="7761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 Varia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5173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with R-f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32288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 Variants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ther variants- Statistic is still in for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finitions of r(i), s(i) ch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lch-SAM (use Welch statistics instead o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-statistics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443640" y="1889280"/>
                <a:ext cx="19033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700360" y="4365720"/>
                <a:ext cx="3168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09360" y="271440"/>
            <a:ext cx="7761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 Variants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for n-state experiment (n&gt;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fine d(i) in terms of Fisher’s linea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rimin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e.g., identify genes whose expression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e type of tumor is different from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ression in other kin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minder: t-T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518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-Test for a single ge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want to know if the expression level changed from condition A to condition 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ll assumption: no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ample the expression level of the genes in two conditions, A and 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The groups are not differen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4365720"/>
                <a:ext cx="100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32000" y="5373720"/>
                <a:ext cx="2303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 Variants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ther types of experimen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 expression correlates with a quantitative parameter (such as tumor st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ir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rvival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y oth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09360" y="271440"/>
            <a:ext cx="7761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AM is a method for identifying genes on a microarray with statistically significant changes in express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veloped in a context of an actual biological experi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ssign a score to each gene, uses permutations to estimate the percentage of genes identified by ch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parison to other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obust, can be adopted to a broad range of experimental situation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914400" y="169992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ignificance analysis of microarrays applied to the ionizing radiation response \ Virginia Goss Tusher,Robert Tibshirani, and Gilbert Chu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bliograph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AM Thresholding and False Discovery Rates for Detecting Differential Gene Expression in DNA Microarrays\ John D. Storey Robert Tibshiran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tatistical methods for ranking differentially expressed genes\ Per Broberg 200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ssessment of differential gene expression in human peripheral nerve injury\ Yuanyuan Xiao, Mark R Segal, Douglas Rabert, Andrew H Ahn, Praveen Anand, Lakshmi Sangameswaran, Donglei Hu and C Anthony Hunt 200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AM “Significance Analysis of Microarrays” Users guide and technical document\ Gil Chu, Balasubramanian Narasimhan, Robert Tibshirani, Virginia Tush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AM\ Cristopher Benn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Statistical Design and analysis of experiments\ Mason, Gunst, H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-stat-class.stanford.edu/SAM/servlet/SAMServl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484000" y="2997000"/>
            <a:ext cx="4886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003366"/>
                </a:solidFill>
                <a:latin typeface="Arial"/>
              </a:rPr>
              <a:t>Thank You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-Test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6932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nder H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and under the assumption that the data is normally distributed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the distribution table to determine the significance of your resul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2924280"/>
                <a:ext cx="2447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1620720" y="3139920"/>
            <a:ext cx="1224000" cy="574920"/>
            <a:chOff x="1620720" y="3139920"/>
            <a:chExt cx="1224000" cy="574920"/>
          </a:xfrm>
        </p:grpSpPr>
        <p:sp>
          <p:nvSpPr>
            <p:cNvPr id="115" name=""/>
            <p:cNvSpPr/>
            <p:nvPr/>
          </p:nvSpPr>
          <p:spPr>
            <a:xfrm>
              <a:off x="1620720" y="3139920"/>
              <a:ext cx="1224000" cy="57492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0720" y="3139920"/>
              <a:ext cx="1224000" cy="57492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-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ultiple Hypothesis Tes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ïve solution: do t-test for each ge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plicity Problem: The probability of error increa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’ve seen ways to deal with it, that try to control the FWER or the FD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day: SAM (estimates FD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3716280"/>
            <a:ext cx="3168720" cy="43344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213000"/>
            <a:ext cx="2448000" cy="432000"/>
          </a:xfrm>
          <a:prstGeom prst="roundRect">
            <a:avLst>
              <a:gd name="adj" fmla="val 366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lem at h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: t-Test, multiple hypothesis te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 i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st SAM’s valid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ther methods- compar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nts of S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AM- procedure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64000" y="1268280"/>
            <a:ext cx="2340000" cy="719280"/>
            <a:chOff x="3564000" y="1268280"/>
            <a:chExt cx="2340000" cy="719280"/>
          </a:xfrm>
        </p:grpSpPr>
        <p:sp>
          <p:nvSpPr>
            <p:cNvPr id="125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64000" y="126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178160" y="2205000"/>
            <a:ext cx="1079640" cy="287280"/>
            <a:chOff x="4178160" y="2205000"/>
            <a:chExt cx="1079640" cy="287280"/>
          </a:xfrm>
        </p:grpSpPr>
        <p:sp>
          <p:nvSpPr>
            <p:cNvPr id="128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8160" y="2205000"/>
              <a:ext cx="1079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0" y="19908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35280" y="2708280"/>
            <a:ext cx="2340000" cy="719280"/>
            <a:chOff x="3635280" y="2708280"/>
            <a:chExt cx="2340000" cy="719280"/>
          </a:xfrm>
        </p:grpSpPr>
        <p:sp>
          <p:nvSpPr>
            <p:cNvPr id="132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5280" y="270828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fine and calcul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statistic, d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09560" y="3624120"/>
            <a:ext cx="2340000" cy="719280"/>
            <a:chOff x="709560" y="3624120"/>
            <a:chExt cx="2340000" cy="719280"/>
          </a:xfrm>
        </p:grpSpPr>
        <p:sp>
          <p:nvSpPr>
            <p:cNvPr id="135" name=""/>
            <p:cNvSpPr/>
            <p:nvPr/>
          </p:nvSpPr>
          <p:spPr>
            <a:xfrm>
              <a:off x="709560" y="3624120"/>
              <a:ext cx="2340000" cy="719280"/>
            </a:xfrm>
            <a:custGeom>
              <a:avLst/>
              <a:gdLst/>
              <a:ahLst/>
              <a:rect l="l" t="t" r="r" b="b"/>
              <a:pathLst>
                <a:path w="6501" h="1999">
                  <a:moveTo>
                    <a:pt x="0" y="0"/>
                  </a:moveTo>
                  <a:lnTo>
                    <a:pt x="6500" y="0"/>
                  </a:lnTo>
                  <a:lnTo>
                    <a:pt x="6500" y="1998"/>
                  </a:lnTo>
                  <a:lnTo>
                    <a:pt x="0" y="1998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9560" y="362412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nerate permut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635280" y="3645000"/>
            <a:ext cx="2340000" cy="718920"/>
            <a:chOff x="3635280" y="3645000"/>
            <a:chExt cx="2340000" cy="718920"/>
          </a:xfrm>
        </p:grpSpPr>
        <p:sp>
          <p:nvSpPr>
            <p:cNvPr id="138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35280" y="364500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attribu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d(i)’s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5280" y="4581360"/>
            <a:ext cx="2340000" cy="719280"/>
            <a:chOff x="3635280" y="4581360"/>
            <a:chExt cx="2340000" cy="719280"/>
          </a:xfrm>
        </p:grpSpPr>
        <p:sp>
          <p:nvSpPr>
            <p:cNvPr id="141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35280" y="4581360"/>
              <a:ext cx="2340000" cy="71928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dentify potenti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gnificant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635280" y="5538960"/>
            <a:ext cx="2340000" cy="718920"/>
            <a:chOff x="3635280" y="5538960"/>
            <a:chExt cx="2340000" cy="718920"/>
          </a:xfrm>
        </p:grpSpPr>
        <p:sp>
          <p:nvSpPr>
            <p:cNvPr id="144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5280" y="5538960"/>
              <a:ext cx="2340000" cy="718920"/>
            </a:xfrm>
            <a:prstGeom prst="roundRect">
              <a:avLst>
                <a:gd name="adj" fmla="val 2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stimate F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0" y="530064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49228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429000"/>
            <a:ext cx="287280" cy="216000"/>
          </a:xfrm>
          <a:custGeom>
            <a:avLst/>
            <a:gdLst/>
            <a:ahLst/>
            <a:rect l="l" t="t" r="r" b="b"/>
            <a:pathLst>
              <a:path w="799" h="601">
                <a:moveTo>
                  <a:pt x="199" y="0"/>
                </a:moveTo>
                <a:lnTo>
                  <a:pt x="199" y="450"/>
                </a:lnTo>
                <a:lnTo>
                  <a:pt x="0" y="450"/>
                </a:lnTo>
                <a:lnTo>
                  <a:pt x="399" y="600"/>
                </a:lnTo>
                <a:lnTo>
                  <a:pt x="798" y="450"/>
                </a:lnTo>
                <a:lnTo>
                  <a:pt x="599" y="450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860640"/>
            <a:ext cx="576000" cy="216000"/>
          </a:xfrm>
          <a:custGeom>
            <a:avLst/>
            <a:gdLst/>
            <a:ahLst/>
            <a:rect l="l" t="t" r="r" b="b"/>
            <a:pathLst>
              <a:path w="1601" h="601">
                <a:moveTo>
                  <a:pt x="0" y="150"/>
                </a:moveTo>
                <a:lnTo>
                  <a:pt x="1200" y="150"/>
                </a:lnTo>
                <a:lnTo>
                  <a:pt x="1200" y="0"/>
                </a:lnTo>
                <a:lnTo>
                  <a:pt x="1600" y="300"/>
                </a:lnTo>
                <a:lnTo>
                  <a:pt x="1200" y="600"/>
                </a:lnTo>
                <a:lnTo>
                  <a:pt x="1200" y="450"/>
                </a:lnTo>
                <a:lnTo>
                  <a:pt x="0" y="450"/>
                </a:lnTo>
                <a:lnTo>
                  <a:pt x="0" y="15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36572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199" y="0"/>
                </a:moveTo>
                <a:lnTo>
                  <a:pt x="199" y="449"/>
                </a:lnTo>
                <a:lnTo>
                  <a:pt x="0" y="449"/>
                </a:lnTo>
                <a:lnTo>
                  <a:pt x="399" y="599"/>
                </a:lnTo>
                <a:lnTo>
                  <a:pt x="798" y="449"/>
                </a:lnTo>
                <a:lnTo>
                  <a:pt x="599" y="449"/>
                </a:lnTo>
                <a:lnTo>
                  <a:pt x="599" y="0"/>
                </a:lnTo>
                <a:lnTo>
                  <a:pt x="199" y="0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88120" y="4699080"/>
            <a:ext cx="936720" cy="576360"/>
            <a:chOff x="6288120" y="4699080"/>
            <a:chExt cx="936720" cy="576360"/>
          </a:xfrm>
        </p:grpSpPr>
        <p:sp>
          <p:nvSpPr>
            <p:cNvPr id="152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88120" y="4699080"/>
              <a:ext cx="93672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o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91120" y="4869000"/>
            <a:ext cx="287280" cy="215640"/>
          </a:xfrm>
          <a:custGeom>
            <a:avLst/>
            <a:gdLst/>
            <a:ahLst/>
            <a:rect l="l" t="t" r="r" b="b"/>
            <a:pathLst>
              <a:path w="799" h="600">
                <a:moveTo>
                  <a:pt x="798" y="149"/>
                </a:moveTo>
                <a:lnTo>
                  <a:pt x="199" y="149"/>
                </a:lnTo>
                <a:lnTo>
                  <a:pt x="199" y="0"/>
                </a:lnTo>
                <a:lnTo>
                  <a:pt x="0" y="299"/>
                </a:lnTo>
                <a:lnTo>
                  <a:pt x="199" y="599"/>
                </a:lnTo>
                <a:lnTo>
                  <a:pt x="199" y="449"/>
                </a:lnTo>
                <a:lnTo>
                  <a:pt x="798" y="449"/>
                </a:lnTo>
                <a:lnTo>
                  <a:pt x="798" y="149"/>
                </a:lnTo>
              </a:path>
            </a:pathLst>
          </a:custGeom>
          <a:solidFill>
            <a:srgbClr val="ccff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12000" y="5308560"/>
            <a:ext cx="792000" cy="611280"/>
            <a:chOff x="6012000" y="5308560"/>
            <a:chExt cx="792000" cy="611280"/>
          </a:xfrm>
        </p:grpSpPr>
        <p:sp>
          <p:nvSpPr>
            <p:cNvPr id="156" name=""/>
            <p:cNvSpPr/>
            <p:nvPr/>
          </p:nvSpPr>
          <p:spPr>
            <a:xfrm>
              <a:off x="6012000" y="5308560"/>
              <a:ext cx="792000" cy="611280"/>
            </a:xfrm>
            <a:prstGeom prst="roundRect">
              <a:avLst>
                <a:gd name="adj" fmla="val 25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012000" y="5308560"/>
              <a:ext cx="792000" cy="611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fna </dc:creator>
  <dc:description/>
  <dc:language>en-US</dc:language>
  <cp:lastModifiedBy/>
  <cp:revision>0</cp:revision>
  <dc:subject/>
  <dc:title>Significance analysis of Microarrays (SAM)</dc:title>
</cp:coreProperties>
</file>