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FA3-5549-4EE7-AA2C-1BF1A48F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0A8-D256-4EA5-94E5-3A1BB760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627-7A04-4424-A8EF-20B81388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0B3-2A6A-41E4-A9C4-D6322DBF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685-B833-4637-8B19-C8875AC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475-9C22-4E10-8BEC-978AC3E8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7A1-6D3E-4EA4-A276-E5E822D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E68-0439-4718-8EF4-BE3955A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98D-FE55-4A66-85CD-E794CC8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C23-7BFB-4FE9-ACF3-E8BB0CE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859-C82E-4216-9D43-54E6C6C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D21-C3F2-4B99-BCF0-4200A07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C2F-1073-4AF7-9386-F550A6248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838080"/>
            <a:ext cx="1905120" cy="457200"/>
          </a:xfrm>
          <a:prstGeom prst="flowChartPunchedCard">
            <a:avLst/>
          </a:prstGeom>
          <a:solidFill>
            <a:srgbClr val="bbe0e3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3809880"/>
            <a:ext cx="1904760" cy="457200"/>
          </a:xfrm>
          <a:prstGeom prst="flowChartPunchedCard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762120"/>
            <a:ext cx="2286000" cy="457200"/>
          </a:xfrm>
          <a:prstGeom prst="flowChartPunchedCard">
            <a:avLst/>
          </a:prstGeom>
          <a:solidFill>
            <a:srgbClr val="ccecff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057400"/>
            <a:ext cx="1752840" cy="53352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5" y="0"/>
                </a:lnTo>
                <a:lnTo>
                  <a:pt x="21600" y="10800"/>
                </a:lnTo>
                <a:lnTo>
                  <a:pt x="20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295280"/>
            <a:ext cx="2286000" cy="3924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0" y="0"/>
                </a:lnTo>
                <a:lnTo>
                  <a:pt x="21600" y="10800"/>
                </a:lnTo>
                <a:lnTo>
                  <a:pt x="207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828800"/>
            <a:ext cx="2286000" cy="3920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5" y="0"/>
                </a:lnTo>
                <a:lnTo>
                  <a:pt x="21600" y="10800"/>
                </a:lnTo>
                <a:lnTo>
                  <a:pt x="20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362320"/>
            <a:ext cx="2286000" cy="3808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7" y="0"/>
                </a:lnTo>
                <a:lnTo>
                  <a:pt x="21600" y="10800"/>
                </a:lnTo>
                <a:lnTo>
                  <a:pt x="205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419720"/>
            <a:ext cx="2057400" cy="5331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0" y="0"/>
                </a:lnTo>
                <a:lnTo>
                  <a:pt x="21600" y="10800"/>
                </a:lnTo>
                <a:lnTo>
                  <a:pt x="20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563868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3800" y="1371600"/>
            <a:ext cx="314280" cy="54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13618" t="15440" r="23555" b="25627"/>
          <a:stretch/>
        </p:blipFill>
        <p:spPr>
          <a:xfrm>
            <a:off x="7772400" y="114300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638680" y="42670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124080" y="2001960"/>
            <a:ext cx="838440" cy="6649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295280" y="2742840"/>
            <a:ext cx="1752480" cy="533160"/>
            <a:chOff x="1295280" y="2742840"/>
            <a:chExt cx="1752480" cy="533160"/>
          </a:xfrm>
        </p:grpSpPr>
        <p:sp>
          <p:nvSpPr>
            <p:cNvPr id="55" name=""/>
            <p:cNvSpPr/>
            <p:nvPr/>
          </p:nvSpPr>
          <p:spPr>
            <a:xfrm rot="10800000">
              <a:off x="1295280" y="2742840"/>
              <a:ext cx="1752480" cy="53316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36" y="0"/>
                  </a:lnTo>
                  <a:lnTo>
                    <a:pt x="21600" y="10800"/>
                  </a:lnTo>
                  <a:lnTo>
                    <a:pt x="203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7120" y="283212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dul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0800000">
            <a:off x="1219320" y="1447920"/>
            <a:ext cx="1828800" cy="457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66" y="0"/>
                </a:lnTo>
                <a:lnTo>
                  <a:pt x="21600" y="10800"/>
                </a:lnTo>
                <a:lnTo>
                  <a:pt x="201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44792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657600"/>
            <a:ext cx="525780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09480"/>
            <a:ext cx="373356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480"/>
            <a:ext cx="37339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28640" y="5105160"/>
            <a:ext cx="2057400" cy="533160"/>
            <a:chOff x="3428640" y="5105160"/>
            <a:chExt cx="2057400" cy="533160"/>
          </a:xfrm>
        </p:grpSpPr>
        <p:sp>
          <p:nvSpPr>
            <p:cNvPr id="63" name=""/>
            <p:cNvSpPr/>
            <p:nvPr/>
          </p:nvSpPr>
          <p:spPr>
            <a:xfrm rot="10800000">
              <a:off x="3428640" y="5105160"/>
              <a:ext cx="2057400" cy="5331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633" y="0"/>
                  </a:lnTo>
                  <a:lnTo>
                    <a:pt x="21600" y="10800"/>
                  </a:lnTo>
                  <a:lnTo>
                    <a:pt x="206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6760" y="51814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429000" y="5791320"/>
            <a:ext cx="2057400" cy="5331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0" y="0"/>
                </a:lnTo>
                <a:lnTo>
                  <a:pt x="21600" y="10800"/>
                </a:lnTo>
                <a:lnTo>
                  <a:pt x="20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895480"/>
            <a:ext cx="2286000" cy="3812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7" y="0"/>
                </a:lnTo>
                <a:lnTo>
                  <a:pt x="21600" y="10800"/>
                </a:lnTo>
                <a:lnTo>
                  <a:pt x="205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ffy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80880" y="2743200"/>
            <a:ext cx="8384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80880"/>
            <a:ext cx="2209680" cy="9144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3" y="0"/>
                </a:lnTo>
                <a:lnTo>
                  <a:pt x="21600" y="10800"/>
                </a:lnTo>
                <a:lnTo>
                  <a:pt x="184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380880"/>
            <a:ext cx="2286000" cy="9144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3" y="0"/>
                </a:lnTo>
                <a:lnTo>
                  <a:pt x="21600" y="10800"/>
                </a:lnTo>
                <a:lnTo>
                  <a:pt x="184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38088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33" y="0"/>
                </a:lnTo>
                <a:lnTo>
                  <a:pt x="21600" y="10800"/>
                </a:lnTo>
                <a:lnTo>
                  <a:pt x="184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Different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ed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33760" y="5637960"/>
            <a:ext cx="2514600" cy="665280"/>
            <a:chOff x="5333760" y="5637960"/>
            <a:chExt cx="2514600" cy="665280"/>
          </a:xfrm>
        </p:grpSpPr>
        <p:sp>
          <p:nvSpPr>
            <p:cNvPr id="72" name=""/>
            <p:cNvSpPr/>
            <p:nvPr/>
          </p:nvSpPr>
          <p:spPr>
            <a:xfrm rot="10800000">
              <a:off x="5333760" y="5647680"/>
              <a:ext cx="2514600" cy="65556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33" y="0"/>
                  </a:lnTo>
                  <a:lnTo>
                    <a:pt x="21600" y="10800"/>
                  </a:lnTo>
                  <a:lnTo>
                    <a:pt x="184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74720" y="5637960"/>
              <a:ext cx="12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tosca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819520" y="1371600"/>
            <a:ext cx="2241360" cy="29520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f5ff"/>
          </a:solidFill>
          <a:ln w="9360">
            <a:solidFill>
              <a:srgbClr val="00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685880"/>
            <a:ext cx="2241360" cy="29520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f5ff"/>
          </a:solidFill>
          <a:ln w="9360">
            <a:solidFill>
              <a:srgbClr val="00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1380960"/>
            <a:ext cx="2241360" cy="29556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f5ff"/>
          </a:solidFill>
          <a:ln w="9360">
            <a:solidFill>
              <a:srgbClr val="00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685880"/>
            <a:ext cx="2241360" cy="29520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f5ff"/>
          </a:solidFill>
          <a:ln w="9360">
            <a:solidFill>
              <a:srgbClr val="00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3657600"/>
            <a:ext cx="1219320" cy="1600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2895480"/>
            <a:ext cx="2057400" cy="685800"/>
          </a:xfrm>
          <a:prstGeom prst="downArrowCallout">
            <a:avLst>
              <a:gd name="adj1" fmla="val 41671"/>
              <a:gd name="adj2" fmla="val 40278"/>
              <a:gd name="adj3" fmla="val 18056"/>
              <a:gd name="adj4" fmla="val 73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Colum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B Column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990800"/>
            <a:ext cx="2241360" cy="29520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f5ff"/>
          </a:solidFill>
          <a:ln w="9360">
            <a:solidFill>
              <a:srgbClr val="00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s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295360"/>
            <a:ext cx="2241360" cy="295560"/>
          </a:xfrm>
          <a:custGeom>
            <a:avLst/>
            <a:gdLst>
              <a:gd name="textAreaLeft" fmla="*/ 0 w 2241360"/>
              <a:gd name="textAreaRight" fmla="*/ 2241720 w 22413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f5ff"/>
          </a:solidFill>
          <a:ln w="9360">
            <a:solidFill>
              <a:srgbClr val="000000"/>
            </a:solidFill>
            <a:miter/>
          </a:ln>
          <a:effectLst>
            <a:outerShdw dist="64600" dir="472516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28:00Z</dcterms:created>
  <dc:creator>pmoss</dc:creator>
  <dc:description/>
  <dc:language>en-US</dc:language>
  <cp:lastModifiedBy>pmoss</cp:lastModifiedBy>
  <dcterms:modified xsi:type="dcterms:W3CDTF">2005-03-09T18:48:52Z</dcterms:modified>
  <cp:revision>20</cp:revision>
  <dc:subject/>
  <dc:title>Slide 1</dc:title>
</cp:coreProperties>
</file>